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7391-7A0D-4EB6-A044-A76ED692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A4F-E604-4427-A756-6DDBE9E8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983C-6A13-4A0B-9822-C7835D63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AD2AE-DF5D-48F2-B208-F2D38629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27982-02E1-4A2A-B4F5-37553FEA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B26BC-E879-4EB1-AEC5-2483321D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4D759-E818-47CB-9B4A-8B254F98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42E0D-0316-4F7A-ABD2-89D31576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4585D-4B45-4C67-9737-58CA782B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25ABC-A3A6-4DE7-97EA-C82DEB941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96365-92E6-4BE0-A901-5914419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EBE9-C820-4837-8234-04F9403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D96-2E2A-47B3-AC25-EE9078FC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9DD97-9F77-4696-AA3C-EF1F74AA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1F8BE-6524-409B-9151-AA662DEB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53E7F-938F-442C-92E6-0E825C3D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E28CD-1FDC-4FA7-AFFC-161F6F5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09660-9CC9-4161-AB4E-E390965D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45407-F2B4-4237-8714-AA65B0F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4B7E4-F3B5-440B-8AAC-AF07D13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45DD9-721C-4289-AED1-2119B2FD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E6959-83E9-41D1-8BA9-4989B3B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66B0-6FDA-4E01-A95B-D7829E24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62C-F788-4301-9638-3B249E8C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3EF78-2EF1-4B76-BAF3-0C382B21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68422-E3A1-4461-8382-499F8DC0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2233E-9215-4922-93CA-6C8DD248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13045-A7C3-4EEC-B827-A378627A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F5F1A-81FF-4365-A211-2EEDD25B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B9813-1F28-4B24-9384-6D130993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02121-52B1-4830-9107-017A5C91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67132-5616-401B-BA5C-C0524779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E5D9D-2B61-4890-AE09-D7CD3821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11D10-A707-493A-9B1F-124AA20F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EC15-79AC-4DE1-A958-33132F97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44C4D-0F9E-49E7-8864-48637B01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A0A7-8F48-4ADE-829D-AE375872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D33BC-3480-483B-8BEB-D47517C8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0BDD3-A3D9-4361-8D8A-157C99E5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3B691-6BB6-4168-96DD-7942FC73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44589-B312-4B2C-A0FE-C5413CC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E11D-C788-4C3E-A210-2259DDE0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C84E7-5F48-427A-8B3A-C60C55E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1873C-7EB1-492E-BB1F-5865921E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98CE2-BAC1-47E8-975F-4984711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E529-764B-4330-A120-B6D6FC5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58824-11F5-40E1-801C-1C3DBD9B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A48FC-798A-4437-8868-21572840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A9413-A56B-4571-A009-C1ABB6BD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C0FE7-04C0-44D5-BF85-90043C2F1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03423-A6EB-4727-BBF7-F6746A72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FE97-6EA6-40AE-B867-52296F65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49FF-921B-4E40-89A5-29A00CF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55A8-1B12-402D-966D-CFC5468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D3EB-B5F5-460A-AFBA-4D5D0F3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654-65D0-4944-828E-52FF0CBE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231-71F3-49DD-A41E-F76DA5C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590-5541-4019-A47C-86D3704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EB7-1333-4058-BD14-F785764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D85F-BD79-4C23-BABE-EF226C8E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FB1A-13C8-4892-8B9D-F8C404C2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471B-0C16-4764-9437-0626F474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C90C-E6A5-4873-A8D9-4F33B494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9FC77-6116-4C8D-B10A-3BEA38A7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61A0-D793-441B-9DAD-2EC8B345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09A0-8FD5-4E0B-981C-978E9108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85470-3052-4D05-A1AD-1FB7D65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68D-D006-4673-9166-D1097D5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9232-FAE7-410F-9C13-0E75080D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DF5F-3C9F-4A02-A92B-F2287E9A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DCD1-A494-4A70-8177-7B5F8DD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B2E1-4891-475E-BC7F-47FDCB8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5DA8-CC33-48D7-8A9F-A8C30755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82D15-B7B0-4BA9-8C63-1A15A69F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048FA-F9F3-45B5-B788-866B4908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63BAD-F431-45AB-827B-4C2E8F07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37FFB-A195-4C1A-855B-79A26DF1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523C5-5F09-49B8-9FD0-32C20DFC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65C-AC1A-4A8D-A1BE-2710D55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6BAA-3654-43F1-9122-0B0A4ADD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17B3-2613-4CFF-B6C3-8F32B86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C10A0-FF8E-4F2E-8BC1-53A4F78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5E52-47D0-4F5D-9B39-BEE4000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7E0CC-F4F3-447E-B974-177F4974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D11A-813D-40BF-9C8F-A053394C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EB38-8E6A-4A70-8AA6-0A7AB185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CA24-AB24-4EA3-A867-06572808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09F7-91BF-4448-B13D-86B88A9D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3635D-B753-475A-946E-D288652E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294-BFD5-4813-80FE-00BCE4BC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AD69-8EB3-4EBC-9D83-95569C93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778A1-00CF-4B79-9FB1-B9846F90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5C14F-3CCA-4263-BD23-AD1BECC6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A844E-ED11-46B5-871B-13CCA6DA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61FB-D324-4E49-9A15-F871F98C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78750-3787-4340-A366-55BFBEE3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4B5F1-FBB1-4E9E-97E9-352BF2E5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EAE9-B6B0-4101-A568-42ECD60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1A7EB-69DC-44B3-B68D-2AF97AEC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DA0C-13DB-4919-84B0-149D7CA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5FED-133B-4B88-AE7B-F7378EA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03B32-94AF-4AFA-BF74-3FCD179A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C6E4B-2995-471F-963D-194256A2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17332-76D6-44F7-9A39-94D306C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C3238-347D-480F-8669-FBBCC41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26B00-9FDF-4DE3-8E81-87AE4779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7B17-138B-4D06-BF3C-CDEBDE3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EB7D1-1D18-49C4-97CD-CCB68D6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59E80-F265-4326-901C-427D281E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D933C-3C57-4B22-AF3C-3362C0E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247D3-DA68-498E-BA3C-6E1AC40C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4CC-DF6D-42BF-B6DB-E6354CA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A443-9CA6-401B-A64D-D764032F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ABA50-CE03-4198-8983-818BD744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49A4A-54B2-4CFE-A33C-97E65A84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1FCBF-F8F9-44B1-A1ED-6B9A0175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4B49-BE8D-4790-A52F-C78DD479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16702-32E2-4F60-A8CF-AB3A33A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1B590-F3E4-498F-A339-FA71C5D4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3A67E-E57B-4E7F-B441-C036E230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C97A0-E4E4-49A1-8BEF-6A301087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5C2D2-CCF2-44C1-A033-BE40FF88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A22-83E6-4787-B5D6-79F80C8C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90BF-2F2C-49AF-B53C-FE6877DD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3A9A5-D243-4A11-9BA4-04EF15FA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6C05-F768-4D97-8CE8-B28AE6B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4A7C-70EF-427D-9971-83053E85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CE195-3FA0-4900-A0DE-B3E607D3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32263-28E1-4A0E-9FFC-95A53993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E3ACC-CCF7-4272-B1DC-357F468B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30ED-8230-4DCF-8AAB-AC64347D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45648-F4DD-4BA0-9D32-ABC8E004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7EB9A-04B0-4085-AFA2-6851ABD1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89F-5EFF-413A-85DC-57A0A5FD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809AB-890B-4DCB-871C-0C63CD6D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5BE9C-580B-46F6-9162-D73834FF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7E1A1-36AB-4EB1-A4E1-BAE482B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30BE-34FC-4C33-9F67-EE558DC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2F939-5095-4F39-BF69-84BA4EFF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30C7-B117-4C1B-8B72-2BFE11D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54EB7-E602-4A92-989B-ACF5BADB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0C9E4-2D3D-412B-AB9A-D8ED6B38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DF6F8-2D96-4526-B72A-B3E4C02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5DD48-6F9B-4AC8-BCA9-387AC5B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745-18F2-4842-8183-A5AE9BAAA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2101-797A-41ED-BB3F-271FC6C4C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67E7-06D8-418C-AC4D-F71C4896A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206C-29B0-47E6-BA32-2C51909CE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32B2-5F07-4964-AC78-7706E86DD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EBCD-BACA-4470-B041-25A18744F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50B7-6EF9-4C66-BAD7-5CD1087C0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5FD-60B0-49BD-A71B-041C0C556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A04D-D06F-466D-ABB1-3279E936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E027-4A06-49FF-8101-8D5ABC530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38BF-344C-4B97-984F-2285D948F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AFC-6CDB-4345-9891-6E0B6621F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10 slides illustrate how the longitudinal modes of a typical 25-35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 mm (~32 Inch) Cavity Leng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's Laser FAQ (http://www.repairfaq.org/sam/lasersam.htm) Copyright © 1994-2010, Samuel M. Goldwasser,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5" descr="C:\LASERS\DIAGRAMS\henemdl4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ooter Placeholder 3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3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28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5" descr="C:\LASERS\DIAGRAMS\henemdl0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5" descr="C:\LASERS\DIAGRAMS\henemdl2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LASERS\DIAGRAMS\henemdl3.bmp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</cp:lastModifiedBy>
  <dcterms:modified xsi:type="dcterms:W3CDTF">2010-07-06T00:24:07Z</dcterms:modified>
  <cp:revision>19</cp:revision>
  <dc:subject/>
  <dc:title>PowerPoint Presentation</dc:title>
</cp:coreProperties>
</file>