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A3BA-F04D-4668-9A14-A50AFA652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9493-F227-4B9B-946F-0E1EF884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3DE34-2A0E-40D7-9329-4ADB3189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18312-7265-42BB-9B0E-1097A276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2BCFC-3D5F-40C5-9AEA-2936D110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16867-85DC-4E43-9D74-8E025B25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6A1C1E-EDB2-4B49-B5B0-D3CC213C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00139-55AC-4CAF-BC55-EF007D59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AA65C8-6801-465F-A4D0-7143A751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A563B-EB72-4F8C-AF97-5FA2CF87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3E85A4-99FC-426B-A767-F0D516B2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37264D-42AB-4820-A55D-7DAA4FA7C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B76C-F2C0-4F3D-9FF5-E3B3BD861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02A524-A5D1-457C-89D2-84779395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530D4-58F4-4A50-9076-18BF96C0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0C15A-D733-4B5B-90EC-F3469E5B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9F8EAF-38B6-4BE5-BD8A-3259F99E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C6BE1B-F48B-4282-B173-7F70FA13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AC3CF6-1769-4A6F-895D-8F6D848E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CD844-88EA-4D71-9561-E732512B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9A6C64-E4A2-4F53-A98F-4915E1BB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D2049F-A4A5-4D30-8F9E-D252ECC0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97E327-E002-43EA-96D9-8A99525BA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5C8B-0355-4218-B234-6C219AF43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C8F507-CF02-4BA7-9DF3-999B7D82F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6E289-33B1-4432-AA8F-D60C9793B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5D5C7F-3DCF-4894-969E-A5824002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52190-CBDC-40B3-9083-01FAB412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8956A-E600-4F61-A26C-1E1006C3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16A39-D684-4E5E-BF6D-46D661AD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F10CB-1E5C-4E38-83AE-D5F63847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D3450-DA38-48EC-89DC-8A6578DB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51312-AEAA-4342-872A-31EB0CC6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FB129-FB03-4953-9F2D-588CB198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61B1-A5DB-4D43-A4FB-5FAEC351F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15BFE-9866-42E1-A049-B1DD87B4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3F1FB-282B-4542-B8EE-74DE0E10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8F228-5D14-4C02-89F7-09C4B5015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3B9A2-CA79-41BB-91E5-E9788939E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D284F0-1782-4521-96F1-B414178B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88329B-D736-47D2-80FF-167FB5D8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60C9EE-3414-4507-9E20-CDF4C69B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FA664B-CEA5-4689-A979-7BDA370D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4988DD-0E7D-4A67-B538-6EBBC9AA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8D4D5A-22B0-4E81-BBC0-378A2824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8D06-7949-4ADB-993C-9DBDC5EF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C1E2E3-8DBC-42DD-A979-3652A22E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BBF2F5-A4D6-416B-BABF-3EE54EFD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0C668C-E6A5-4F19-9130-386A6D8A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444702-1D5F-483D-85CD-6257A0E77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6F4A9F-D226-4D2A-9970-E9DB30CD4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40E9-3152-4024-AC86-2ABF65AD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4A4F-BB89-49F6-9064-2FB31C86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2E32-E71E-485A-A3C0-CD63CEF4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70415-E6B9-41B1-80F2-9DAFD7DB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AE0C-A6EB-4E23-A15A-4AFFFCDB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29AB-6830-41DE-9118-3895A32E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07F6-F5CB-4AAD-8EE5-75BC4F02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146F-BCC2-4DBF-BC69-BBDD6E72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2E12-DD0C-41F4-8247-9169B7B6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9C7B-7BF4-4112-9C57-451E797B4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6BEA-ECFE-4D5D-8BD7-AD42CA30E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C5A33-A7F5-4709-9EE8-7C203C34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26EB3-FFCF-44BE-8FB5-3E5A6758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E89A3-4596-48D1-87FC-D62B58B7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47878-54FA-4D5A-86E2-2C782483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5A65F-183F-4BA7-86F0-6016DF3D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6AC6-F535-4EE8-A46B-FAE70934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1EE06-5E6A-4943-8E78-D572555C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202D6-D52E-4D27-AD89-60BBDA8E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99E9F-5981-4769-ADFE-3226BAB8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85C04-9829-4C15-88D4-6E7C3942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9D82B-2F3D-4338-9EA9-6B01ACBE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8CA85-D25B-43EE-9808-AD539F24E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26E31-8F03-4AA6-A601-9B5FC21CF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9AE16-9953-4B38-9546-F3FF689F7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DE8B4-F652-424B-925D-C2ACEDD4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FC362-8559-463A-88BB-0D332E15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54A6-FC9C-4473-BBF7-23738F90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64454-385A-4743-904A-3880BD30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DA8B7-C165-4315-AEC9-2FF60BD6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B6234-DAAB-402B-B7F8-70C13FAF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1387C-B566-49F6-BBB3-3B25143A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A128E-E070-4AF2-80BF-9399AC66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5DAFE-B777-48BE-96F2-DE5423AB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990B7-312B-4CAB-ADFE-37425725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2881E-BF23-456A-A329-D8F3633E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27A0A-B354-4A9F-A034-D53EAA224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BD6C1-0912-4881-90A4-D81759897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541F-923F-4842-A087-47D09262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CA710-19D9-43F4-8655-C506C046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FA0C6-8014-4950-BB08-39267D72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CF794-6C62-49E7-BFE5-FC7AA764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184AD-141C-4B4C-B4AD-1C46C418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46D9F-1BDC-408B-B62A-DA7095AF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D9EE3-B858-4C2E-BDB4-1EAACF73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F11BD-5098-4C45-889B-C32C552B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DCF56-85E3-4EC5-8868-EEAA4260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791C7-7948-471E-8DCF-1343CA1B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BF08F-61C6-4AF9-A074-B4C311B6A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C91C-2BB0-4234-9ED6-365D5E69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FD223-07CE-455D-BE74-E6CDD0F92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865BF-DC42-4374-BE66-F23136D7B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F61E3-8440-4F22-A8F7-B8601A1C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535C8-EBB2-4F61-9629-125BEB59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18EEE-A39C-4E8D-B476-4948533F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23C8B-174B-44B3-98C9-E2D2EBBF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6AA17-A69C-4ECD-A729-FFD54100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2797A-EEF3-4CB9-92AA-F56EA72A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688CF-48A5-46DA-B647-155A8D1E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5B082-6C77-4116-A603-0274AF3C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6C2C-2B0C-4EFD-88AE-4FFAB279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6A59C-F86A-4790-8465-79353D10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162A1-9738-4DD7-A286-AC5760127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721A3-2FE3-4DBF-977F-334083358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5A373-4645-47BC-B347-0C8463E4A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C9A4B-2F0A-4DD6-885C-84FD176E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BD9F7-0FF0-493E-A7CA-84556F49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339CA-177D-4282-A603-0F1EA000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C049F-FE72-4E3C-A5F8-F27B0142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C5C82-2B90-4A8A-8EBD-DC820552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9CE57-05C7-497D-983B-CCE4D897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73A8-DE65-493A-988B-1206C24F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FD4AA-324D-44EC-B45C-D2EAB6E2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B000B-63F8-4DBB-8704-98332C88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E7312-F5AE-435B-B6D3-72CB613D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733E9-921F-492C-B2BD-EE4DBA704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52BD3-7DCD-4B04-938B-E49491DC9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949DA-A56A-4EB2-AA26-033531E4B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83076-5EDC-4CBE-8AD5-20872659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EB0A8-2582-4976-B626-5375114E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57F45-8FB0-42FA-9AE4-544BA09B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3907B-36A0-4452-AFF2-2A8EF727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E4D3-2C59-4EB5-A9B4-C38B76F8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F9796-530E-4A17-9E96-B81A3800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E4D0B-933A-4A6B-BBD0-0F3896A0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7C7C3-FF02-47B2-8031-6744EAB3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BE8C6-7C6D-4FD7-9DE4-F24E0BEC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8674C-2612-44D9-AC9D-16E0730E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63A7A-5020-4DA6-BB5F-F1A3DCFD5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680AC-4F1D-407C-BA7A-863EC02E9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4A630-B299-4469-BE9A-C00C742E9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8C7A6C-5525-4408-957C-3F760C0E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25A80-3836-4F4F-B37F-19DDBA29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C872-E726-4EAA-BBF8-D339EE028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C256-0E62-4E79-95F8-536B0BE01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2CA1-FA54-46FB-9CEE-BD833F562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37FA-C4F5-45CD-977D-A33235C58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3579-7028-41FE-8A7D-3CADBC0FC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DE91-3487-4FB4-929B-751587376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4AE7-4AF4-4A04-B0B8-753F5A238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5FD5-FA33-4BB3-9A26-FEB02162B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A8D8-C271-4DB4-B0BA-785316EFB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BC12-6C40-4E54-91AB-3DC321C6B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B609-F75A-4B4C-A375-299045B46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321E-1B85-4BF4-936E-AFE6ECB9A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e Laser Mode Swee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838080" y="22860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llowing set of 10 slides illustrate how the longitudinal modes of a typical 8-10 mW HeNe laser sweep or cycle through the neon gain curve as the laser warms up and the cavity length increases due to thermal expans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Box 4"/>
          <p:cNvSpPr/>
          <p:nvPr/>
        </p:nvSpPr>
        <p:spPr>
          <a:xfrm>
            <a:off x="914400" y="1371600"/>
            <a:ext cx="7696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0 mm (~16 Inch) Cavity Length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Footer Placeholder 5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's Laser FAQ (http://www.repairfaq.org/sam/lasersam.htm) Copyright © 1994-2010, Samuel M. Goldwasser,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Footer Placeholder 4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6" name="Object 5"/>
          <p:cNvGraphicFramePr/>
          <p:nvPr/>
        </p:nvGraphicFramePr>
        <p:xfrm>
          <a:off x="0" y="1219320"/>
          <a:ext cx="914400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Footer Placeholder 4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0" name="Object 0"/>
          <p:cNvGraphicFramePr/>
          <p:nvPr/>
        </p:nvGraphicFramePr>
        <p:xfrm>
          <a:off x="0" y="1219320"/>
          <a:ext cx="914400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ooter Placeholder 4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4" name="Object 3"/>
          <p:cNvGraphicFramePr/>
          <p:nvPr/>
        </p:nvGraphicFramePr>
        <p:xfrm>
          <a:off x="0" y="1219320"/>
          <a:ext cx="914400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ooter Placeholder 4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8" name="Object 3"/>
          <p:cNvGraphicFramePr/>
          <p:nvPr/>
        </p:nvGraphicFramePr>
        <p:xfrm>
          <a:off x="0" y="1219320"/>
          <a:ext cx="914400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4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2" name="Object 4"/>
          <p:cNvGraphicFramePr/>
          <p:nvPr/>
        </p:nvGraphicFramePr>
        <p:xfrm>
          <a:off x="0" y="1219320"/>
          <a:ext cx="914400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Footer Placeholder 4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6" name="Object 3"/>
          <p:cNvGraphicFramePr/>
          <p:nvPr/>
        </p:nvGraphicFramePr>
        <p:xfrm>
          <a:off x="0" y="1219320"/>
          <a:ext cx="914400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Footer Placeholder 4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vity Modes and Lasing M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vity modes that fall within the region of the neon gain curve which is greater than the lasing threshold (net gain &gt; 1) will result laser oscillation and a lasing mode with an output power approximately proportional to its amplitude compared to the lasing thresh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are the longitudinal modes of the la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otal output power of the laser is equal to the sum of all the longitudinal m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ooter Placeholder 4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 Swe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he cavity length increases due to thermal expansion, the wavelengths of the cavity modes (and longitudinal modes) increase (moving to the lef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cavity mode passes the point on the left (longer wavelengths) where the gain becomes less than 1, a new mode will eventually appear on the right to replace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Footer Placeholder 4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ar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acent longitudinal modes in random polarized HeNe lasers are usually orthogonally polarized with respect to an orientation determined by the laser tube construction.  These are denote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itudinal modes in a linearly polarized HeNe laser will all have the same polarization orientation but similar amplitudes for the same size la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Footer Placeholder 4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600" y="1676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rt slide show to view mode sweep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1028"/>
          <p:cNvSpPr/>
          <p:nvPr/>
        </p:nvSpPr>
        <p:spPr>
          <a:xfrm>
            <a:off x="838080" y="33526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eft and right arrows may be used to change mode sweep speed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Footer Placeholder 4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Object 3"/>
          <p:cNvGraphicFramePr/>
          <p:nvPr/>
        </p:nvGraphicFramePr>
        <p:xfrm>
          <a:off x="0" y="1219320"/>
          <a:ext cx="914400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Footer Placeholder 4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4" name="Object 4"/>
          <p:cNvGraphicFramePr/>
          <p:nvPr/>
        </p:nvGraphicFramePr>
        <p:xfrm>
          <a:off x="0" y="1219320"/>
          <a:ext cx="914400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oter Placeholder 4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8" name="Object 4"/>
          <p:cNvGraphicFramePr/>
          <p:nvPr/>
        </p:nvGraphicFramePr>
        <p:xfrm>
          <a:off x="0" y="1219320"/>
          <a:ext cx="914400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Footer Placeholder 4"/>
          <p:cNvSpPr/>
          <p:nvPr/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2" name="Object 5"/>
          <p:cNvGraphicFramePr/>
          <p:nvPr/>
        </p:nvGraphicFramePr>
        <p:xfrm>
          <a:off x="0" y="1219320"/>
          <a:ext cx="914400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12:42:28Z</dcterms:created>
  <dc:creator>Sam Goldwasser</dc:creator>
  <dc:description/>
  <dc:language>en-US</dc:language>
  <cp:lastModifiedBy>sam</cp:lastModifiedBy>
  <dcterms:modified xsi:type="dcterms:W3CDTF">2010-07-06T00:37:26Z</dcterms:modified>
  <cp:revision>13</cp:revision>
  <dc:subject/>
  <dc:title>PowerPoint Presentation</dc:title>
</cp:coreProperties>
</file>