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3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2AA-9AD0-4E70-80A3-74DFDF4E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B2B-917A-4213-B42A-D56F3D2D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C7386-182F-4A29-B54B-63D32F35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15FFB-24A0-4F79-AB20-60BDB892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447A-107E-41BA-8A99-7301FF78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06F24-BC23-4921-9EED-97973339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478F0-DA67-4891-98EF-D2D13DC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EC2C4-B3D5-487E-82C3-F15F1B9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B1BB6-8F02-4B78-BE90-62AC5B8C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4EE66-F5B6-4A80-9444-7DEFB111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44A6-7685-4631-9E09-6BEE5058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1982E-89BA-4E92-A903-136767AA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9EE-2F88-4F05-964E-A9680018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067DA-88EE-4118-B2FD-A7B104F3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90F81-CFE5-43AF-8E43-CB1CAEF4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292BD-B13E-4195-9E16-989C98FB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69DA3-5914-415C-839E-96A5092D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5388A-3B0A-43D0-81B1-3343ABEA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F147E-6175-4EF6-B3CA-E6B5C0D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4B7A3-7F8B-4782-AEA4-BFC0867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C3026-E2A2-40BC-AA1C-DD7445B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7D6C62-B4F7-4E6B-AF59-6FAD7202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40EF0-0001-40C3-AB17-5CDA3CC8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AEC-F342-4C5F-B620-362EBA7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BF2D-1A80-4CD9-918E-898E9F6F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C61-81BA-48CD-931D-60616F38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7703-00CE-433A-AA2E-F9A04B58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05F-9876-4145-8876-624E5E49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0807-704E-414D-AAA9-411E27C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A174-41AF-46C4-B136-79461E86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2FB8-CF87-4C59-943D-9877873E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A243-4930-401F-85BC-AC3E4A3B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0424-6BDB-4AD8-A0FC-43E27E47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E497-7450-4BEC-9922-6D248E6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2DC3-0B3A-44E9-8A43-199771B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DBB-2BCA-48DA-9777-93BCD819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5DF1-3249-47B6-B470-3C2FE2A0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07B-752E-45C7-8BE3-5518F980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C3C5-238D-4EA1-82DA-B65B0A96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93BC1-A9E8-4A6E-B280-C0123A3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582B-F2C1-4EB8-8C19-9AD2F0C1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2E186-21D2-49FB-9574-D63E9B53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8356-DB35-4A85-B9A7-07031800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764F-9E77-4087-B498-1C95BD0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B5F63-8C4D-4843-A75C-B64D8296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92413-5AC2-4DF2-98EF-F514464B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8761-EBEA-4244-ACD9-1F377A2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39AC0-2567-4269-A49B-F95CF237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BC6EB-93E4-4107-8A8F-599A7611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910A4-7BBD-4EDF-9250-69C0AECA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242C-6ED6-4914-B66C-79BF51CA1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C76B8-9DEF-4124-B195-B46A69C9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FF56-2E09-4A63-B1B6-13869466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F9BDB-B1E0-456B-8F8A-D2EB8BE6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759-623C-4623-A117-6A49388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660FD-F395-49FF-BB14-589ED377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C1187-6EFC-4986-AB41-C9B249EF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3360D-C710-4E56-8569-DDB797F6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3628-A65E-4A3D-BD01-E033DA7E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BBC3-F0A7-4E89-AD4D-A089982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2E652-60D8-46D2-9754-A192066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AED5-F559-4F1E-AEE8-00F3A5A8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2D03B-D791-45A3-9675-B7B51CD9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77603-54BD-4991-811A-07FB4EB9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4C9D6-0CA8-4827-B863-668CB14D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D93-BD49-49E4-AA52-75196899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5E48-6951-4A3F-A4BE-41F4FF6C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CB27-A6A7-4FF8-B3F2-A521936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FA94-5474-49D4-AB96-3BBF3EAB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04BED-C42A-4B43-9C5D-74EE47D4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1BBA-88F5-4785-B231-418FD76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1087-F763-4F72-BC80-C59001B8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EAEA-3488-4310-A314-415AFDA8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5ACE7-3D49-4DAD-A42B-4DF62EA8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61F0A-A8D1-42D5-91D3-2BE1B78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F8933-D27F-403F-92C3-12246591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32D-EAC3-4CE5-A8E6-6CDE3E40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E3E0F-5BE7-424D-8A91-17A17A344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B958-56A1-4A74-A7EE-C06A418B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59D60-C2D0-40D0-831E-9074C4F3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9C97C-CBF3-4275-A782-CE655B95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089E-E903-49FF-8D4D-5D4CF99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F5178-CEAA-41D6-9080-BF3E4ACE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31124-F539-40F3-832E-08C34B8B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BDB1-0F8B-47A3-A1A8-6ECE29A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54196-B570-445E-B126-E3CE724A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43854-0372-4AFE-92C8-D06EE93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111-FA89-4221-92C6-C63E391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CAC3-863F-4C0C-9F2E-1882394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5882-BAC3-4C3B-B451-46B73BA2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55134-6EA4-4D8E-948F-B92B5C5D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41BB4-F382-4004-9C9F-BE123EE0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B098-75DE-40D4-8C5F-410455AC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35000-AB3F-4AB5-B363-F849DC4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8E384-3353-4261-BA44-F3DD403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16943-2217-4FB2-89ED-D02D16DF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703B-7B90-4570-B776-B35046B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36E3-04B8-4F45-9026-740CF79D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952-2EF2-41B9-AAA5-92128E84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0AA0-25DC-4AC8-BBE5-62A5F19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D541A-93A6-41F4-A4CD-01801A9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95A9D-6C54-446D-A546-2FB7355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B00C-0CE9-4E65-9D9D-9694E582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C272C-A202-4B51-864E-24F43097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35EE5-1317-42C3-8EA7-87206D10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865F4-E407-47A1-AB33-5AB3DCB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82690-380F-45A2-B284-3229E3FD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86570-282B-4D9B-ACFA-628E98E5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A8058-4763-46CB-AF49-D28F70D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0DA-103E-46F0-98CE-83AC66E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AAE3A-3F94-40FF-B377-7E98686D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22493-09E5-4757-A735-4D0FD8E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99607-F185-42CF-961C-D25A2DCB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4698-AFAD-49F1-8236-168CCD36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252AE-738A-454C-BB19-C80038CB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4C930-9162-4CEB-963A-A852B398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3938F-D78E-4790-90B5-D99676A4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1294B-2054-47FB-8AAC-98216535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AB994-63A2-46A2-AAB3-E043A430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BE9CA-50C1-4B2E-A749-FBDB1C07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10CF-1F81-413C-9432-9765539CA9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7BE2-744A-4B5C-A1AC-3A9817590A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99B-633F-47BC-9967-B8A29D3606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B3D3-68A0-41DD-A703-B063CA28E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0A81-B935-461A-8DB6-1C8FAD68EB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ABF2-163A-496C-9347-F95F871AC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A76C-F206-4989-9DA4-DBF13BF725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C33-95F0-44AD-94B7-BE43C95F9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AF99-5444-4691-99B7-ABDC5DCD10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AEC9-43FD-4F4D-A6D1-E06BC13B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C043-DE9C-4DAA-852D-2DA4EA344C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0FBC-9C38-45A1-B3C7-149BE145E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947-C66D-40CE-A74A-C4CADBAB97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B1E-6E58-4B6E-AC59-3AE1B536F7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1B2-1657-4958-8038-9503CB7F6D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60C-8CCA-4DFD-84BF-F45A19124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60AB-AB19-4917-8104-AC1449AE29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BC72-144E-48CF-BA7B-C44E97344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40B-1FC8-4B34-BA2B-80C5A8972A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94AE-1DF6-4B0F-9866-AF14F548B8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e Laser Mode Sweep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838080" y="22860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set of 30 slides illustrate how the longitudinal modes of a typical 1-1.5 mW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914400" y="1371600"/>
            <a:ext cx="7696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mm (~5.5 Inch) Cavity Lengt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C:\LASERS\DIAGRAMS\henemss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C:\LASERS\DIAGRAMS\henemss5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6" descr="C:\LASERS\DIAGRAMS\henemss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:\LASERS\DIAGRAMS\henemss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C:\LASERS\DIAGRAMS\henemss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C:\LASERS\DIAGRAMS\henemss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C:\LASERS\DIAGRAMS\henemss10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6" descr="C:\LASERS\DIAGRAMS\henemss1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6" descr="C:\LASERS\DIAGRAMS\henemss1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C:\LASERS\DIAGRAMS\henemss1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C:\LASERS\DIAGRAMS\henemss1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C:\LASERS\DIAGRAMS\henemss15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C:\LASERS\DIAGRAMS\henemss1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C:\LASERS\DIAGRAMS\henemss1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6" descr="C:\LASERS\DIAGRAMS\henemss1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1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5" descr="C:\LASERS\DIAGRAMS\henemss1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C:\LASERS\DIAGRAMS\henemss2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C:\LASERS\DIAGRAMS\henemss2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C:\LASERS\DIAGRAMS\henemss22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6" descr="C:\LASERS\DIAGRAMS\henemss23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is short HeNe laser, at most 2 modes are oscillating at any given time, and ofter there is only a single mo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C:\LASERS\DIAGRAMS\henemss24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C:\LASERS\DIAGRAMS\henemss25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6" descr="C:\LASERS\DIAGRAMS\henemss26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C:\LASERS\DIAGRAMS\henemss27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6" descr="C:\LASERS\DIAGRAMS\henemss28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6" descr="C:\LASERS\DIAGRAMS\henemss29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18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1028"/>
          <p:cNvSpPr/>
          <p:nvPr/>
        </p:nvSpPr>
        <p:spPr>
          <a:xfrm>
            <a:off x="838080" y="29718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(Left and right arrows may be used to change mode sweep speed or to simulate the feedback control of a stabilized HeNe laser by centering one mode on the neon gain curve or by balancing two modes on either side of the neon gain cur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28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C:\LASERS\DIAGRAMS\henemss0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6" descr="C:\LASERS\DIAGRAMS\henemss1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6" descr="C:\LASERS\DIAGRAMS\henemss2.bmp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3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ooter Placeholder 5"/>
          <p:cNvSpPr/>
          <p:nvPr/>
        </p:nvSpPr>
        <p:spPr>
          <a:xfrm>
            <a:off x="228600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am's Laser FAQ (http://www.repairfaq.org/sam/lasersam.htm) Copyright © 1994-2010, Samuel M. Goldwasser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6" descr="C:\LASERS\DIAGRAMS\henemss3.bmp"/>
          <p:cNvPicPr/>
          <p:nvPr/>
        </p:nvPicPr>
        <p:blipFill>
          <a:blip r:embed="rId1"/>
          <a:stretch/>
        </p:blipFill>
        <p:spPr>
          <a:xfrm>
            <a:off x="0" y="1295280"/>
            <a:ext cx="9148680" cy="431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4T17:44:55Z</dcterms:created>
  <dc:creator>sam</dc:creator>
  <dc:description/>
  <dc:language>en-US</dc:language>
  <cp:lastModifiedBy>sam</cp:lastModifiedBy>
  <dcterms:modified xsi:type="dcterms:W3CDTF">2010-07-06T00:33:20Z</dcterms:modified>
  <cp:revision>32</cp:revision>
  <dc:subject/>
  <dc:title>Slide 1</dc:title>
</cp:coreProperties>
</file>