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00B-8EBF-41AF-A860-1409E187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C9B-D8C4-4C0E-8E00-4BE86357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B4EEC-94EC-464F-8BDC-F5C2FF18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188A4-9925-4B1D-BE24-E82113F8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3EB44-AA1E-432C-923D-5A58ABD8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A67E7-71CC-436B-9012-AB1BA6FE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7D0FC-54B9-40EA-9AE2-1CE8422B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7FD35-5859-4871-8B89-7190D737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185AC-586B-4EF9-841A-65E91FBA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578836-B284-4C8A-8886-1138AF12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5D299-5883-4674-8CA2-929C01AD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4E4D8-B6D5-4429-8A2A-6B7E007E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0963-8744-4BD4-A6DD-9A60EC14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C5719-2D1B-4778-B732-F8D9A2BB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59E1F-75CF-42DE-AF91-7298591D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61F4B-9B93-4CC0-9D87-3ED0D1C2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65004-7289-4534-99E0-90549D5B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B3A5D-8C15-4D99-A900-64572484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E1248-4A8F-40EC-A28D-F90A4A1E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BF6EA-35BA-4E96-AF24-6082F39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DD678-8C84-4E30-A872-2E4FFF8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F69F8-0DC2-44A6-87DC-0F610565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EE355-4EB8-4BB2-B880-A8E6E5C3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FD6-017C-472B-B137-871006C7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95EF4-5F86-4B79-9EC8-73787521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3E37-239E-40B5-8221-F8D5D063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FD75-2637-4762-A74B-41ABFE49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2FAD-A247-4E98-B9DF-EB2AE634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70F7-5EDA-4847-B8EB-B3B67AEB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7A37-5199-4576-A70B-9731C060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1AFA-4144-4E9D-80AB-B0E35EF5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158A-FD41-44F8-A4F9-1AFB3046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408-7326-4B74-8E2A-20757E23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00E0-2B66-4323-9BD4-413F983B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05CE-7458-42AD-A143-8F81A01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E59F-66C2-476D-BCEF-9B6615C5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5261-71CC-4319-94E8-D018C169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F8C0-BDE9-4725-9EB2-F3CB555F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CE3A-A00F-4449-A395-AD1D9DFF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26A54-A836-4A75-B89F-AE3B35F1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C39C-D112-4E3B-9BD9-DD6D4565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673D-5F46-4FB5-B829-95A94E11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3993-47CF-480A-B610-06A7D232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E0F-3C95-42F0-9F8C-DD3DE226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E0DCE-E881-454D-91B4-4A70F972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8779-196D-4BB5-8000-E98F220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F89D-5F5F-4360-A55C-4A1D8C96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87A7-234A-4AE4-8BFB-67F47E15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04F45-319F-45ED-8CC9-AEFA3FD1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F5D05-F85B-4215-9B04-32A338A5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1D083-1FC5-45BE-93D3-ACA55734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5B506-A175-4F24-A6CE-3EAD2BA0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6A4A7-E304-47C0-A7CB-AE7F57E6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AE053-F611-487B-84EB-E94F0B76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3E5-512F-4122-9A74-7997913B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5D10D-F874-4B6C-A4E1-220FA9DC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FB08B-59D9-4757-B525-2801D0B0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6AE0-3512-4E78-809B-747FD88A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D4A2C-AC07-49B6-8F8D-8C140A8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F70AA-ED63-4BA0-9F66-421DBF0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25271-0D5C-41BB-A309-F108DF8B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D85AE-0DB1-4673-8AFB-255374F4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2639-3924-43B9-9DFB-FFB09EA7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C0E6B-B943-40F9-BFD7-C8C427EA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1693-22E6-4193-96E9-17FEE5DD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F1A-A4DA-4E01-A80D-42781D09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B088-51CE-404C-A0A7-E3684D6D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A43EA-D51B-46A5-8CF0-BC0DBF6E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AAE85-F55C-4158-9B3A-C88C9AF2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D5045-8EE5-4206-99D6-68C990E6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577A0-300A-477B-8BDC-D92DCC7B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FFA7A-03C4-47BE-8A1A-590C206A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63526-4AB9-4A43-BD22-80CDD557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0E388-015E-4E41-9C99-6CF8FD16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B0D42-E8CF-4A59-93C9-D68C670D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B59A7-0AF7-40DF-80A2-37232B58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C01-C3E7-4180-92AA-4B8720CB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B50C-B1F6-471F-BACF-369B089F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3B191-4E44-4FF8-811B-82D66ADFB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88E2B-8692-4976-BF01-B8A7826C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2E70A-67C6-4D11-B651-66365401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7FF02-E671-4EC6-BD05-5452D7A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839CE-7529-4DC4-87BF-B50DD38A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ECD1A-F9F9-4FE3-9A74-9A77CBDE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D02C2-A9D5-4B2F-AE32-2EB2DC6B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AE372-D1A4-48F0-90A0-748F6450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BC4FF-F4BE-4FFB-AB4A-5B84BFD8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76C-80F7-42C2-92D9-BE55DE86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5BF66-7129-40A3-B80D-E08717A5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08C47-0977-4DD9-8F00-DF14B11A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4BD1B-0FCD-4866-B42E-1F8A0500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534D3-E6F0-40F6-BB03-1FF593B7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2E70B-CFB8-46A3-957A-0C094617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F9D1C-9EBC-4D2D-A036-A26056C3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7C6DB-1693-40C6-8A02-E0D97711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34CE3-A3BA-4F4C-96AC-601A5601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15E3D-BC16-443D-811E-C5245465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A876E-C88B-4AA9-8A62-A91D94C1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574B-7B21-4D54-BDCE-09FC21BE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F79CD-2A35-438B-8224-0653637F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EE4B5-7917-40E1-A930-ACDCD2E3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AB85A-E430-45A1-BA54-7EF9516C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6445E-AEA2-4F64-898E-284135D3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971B4-8DBF-41AA-A181-81F1ABBF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509C7-065C-4FA2-AF55-9C76103C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B93D6-D69A-4842-A469-283C67DB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47086-386D-474E-80D1-69A0D83A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2B903-745F-4694-A7F8-4CACA1C5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D7F6A-08A5-47D6-BC6A-F7762827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AEB-C7D5-46B7-BA1D-A8A06D7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1CA43-EAA6-41AE-9FE1-17AE583C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25D59-98B4-44FA-8B9B-3D068DAC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31F1D-2294-4883-9FDF-955C6AD5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05DFD-049C-4F2C-A7C1-0C4BF9EA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80184-E015-443A-B7A1-482CF8F9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5A4D7-1EDC-4F6D-B53E-023C5852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2E164-ADD3-4A0C-8456-009D447A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80E9C-A66F-4459-8BB3-C903AFA4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7EBEF-650E-4FAF-A365-427162AE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542C8-4F99-4A9C-A196-25BEB9FC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ACC8-DF4D-48B0-AC46-70886E441F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15B9-242C-4B77-9E3A-0715C9ADB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7F06-42C7-438A-B474-41059AE5FB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C79A-F06A-4078-BFE7-923C99B6B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042F-7020-4877-B82C-69474AE047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3F50-70BD-4457-8828-E30787F73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B222-4835-44B1-8A20-F202AD7D5E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CB5D-ECCF-469E-989D-05E495BBA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46CE-4ABD-4784-8C84-F00A12FD8B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F5E1-CBD0-4540-8E73-D1CD56536D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E6AC-CFE9-4018-9EBF-71A5A691A4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6A9B-4791-4685-AD88-27B1A846A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9A59-60EB-4064-9222-C53D26DBC2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6B2D-1821-4B14-80DD-0FDAB6405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033D-06EE-482B-A49F-5813A6518E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A48E-87D6-4CF0-B518-CC92183AE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3624-E6D6-4EE3-B6EF-E99EE29D27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5B51-E397-4606-B09D-FA898ED8A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9986-1559-4C84-8F99-C1CB9B7EB7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CD09-F2F1-4235-AD10-97C425A19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e Laser Mode Swee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838080" y="2286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et of 20 slides illustrate how the longitudinal modes of a typical  2-3 mW HeNe laser sweep or cycle through the neon gain curve as the laser warms up and the cavity length increases due to thermal expan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914400" y="1371600"/>
            <a:ext cx="769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mm (~8 Inch) Cavity Lengt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5" descr="C:\LASERS\DIAGRAMS\henemsm4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C:\LASERS\DIAGRAMS\henemsm5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C:\LASERS\DIAGRAMS\henemsm6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C:\LASERS\DIAGRAMS\henemsm7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5" descr="C:\LASERS\DIAGRAMS\henemsm8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C:\LASERS\DIAGRAMS\henemsm9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ooter Placeholder 1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5" descr="C:\LASERS\DIAGRAMS\henemsm10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5" descr="C:\LASERS\DIAGRAMS\henemsm11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5" descr="C:\LASERS\DIAGRAMS\henemsm12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C:\LASERS\DIAGRAMS\henemsm13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vity Modes and Lasing M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vity modes that fall within the region of the neon gain curve which is greater than the lasing threshold (net gain &gt; 1) will result laser oscillation and a lasing mode with an output power approximately proportional to its amplitude compared to the lasing thresho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the longitudinal modes of the la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tal output power of the laser is equal to the sum of all the longitudinal mod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5" descr="C:\LASERS\DIAGRAMS\henemsm14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5" descr="C:\LASERS\DIAGRAMS\henemsm15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5" descr="C:\LASERS\DIAGRAMS\henemsm16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5" descr="C:\LASERS\DIAGRAMS\henemsm17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C:\LASERS\DIAGRAMS\henemsm18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5" descr="C:\LASERS\DIAGRAMS\henemsm19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 Sw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cavity length increases due to thermal expansion, the wavelengths of the cavity modes (and longitudinal modes) increase (moving to the lef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avity mode passes the point on the left (longer wavelengths) where the gain becomes less than 1, a new mode will eventually appear on the right to replace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is fairly short HeNe laser, at most 3 modes are oscillating at any given time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t longitudinal modes in random polarized HeNe lasers are usually orthogonally polarized with respect to an orientation determined by the laser tube construction.  These are denoted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one mode is approximately centered on the neon gain curve, the other two modes will have the orthogonal polarization and can be block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modes in a linearly polarized HeNe laser will all have the same polarization orientation but similar amplitudes for the same size las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lide show to view mode sweep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1028"/>
          <p:cNvSpPr/>
          <p:nvPr/>
        </p:nvSpPr>
        <p:spPr>
          <a:xfrm>
            <a:off x="838080" y="29718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Left and right arrows may be used to change mode sweep speed or to simulate the feedback control of a stabilized HeNe laser by centering one mode on the neon gain curve or by balancing two modes on either side of the neon gain cur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5" descr="C:\LASERS\DIAGRAMS\henemsm0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C:\LASERS\DIAGRAMS\henemsm1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C:\LASERS\DIAGRAMS\henemsm2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5" descr="C:\LASERS\DIAGRAMS\henemsm3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17:44:55Z</dcterms:created>
  <dc:creator>sam</dc:creator>
  <dc:description/>
  <dc:language>en-US</dc:language>
  <cp:lastModifiedBy>sam</cp:lastModifiedBy>
  <dcterms:modified xsi:type="dcterms:W3CDTF">2010-07-06T00:36:16Z</dcterms:modified>
  <cp:revision>38</cp:revision>
  <dc:subject/>
  <dc:title>Slide 1</dc:title>
</cp:coreProperties>
</file>