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6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9B69-5D4E-4B87-9E01-E5DA6DF4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EDB-51E0-4702-AF59-B05F9F1B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7B5-CFAE-4C97-B9DC-01C0A441E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901-8C27-4526-8017-62885462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7B6-1CA7-42E9-8B60-89DB9271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564-ABED-48C0-8855-5C0B41FE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B01-08A2-44F6-8237-CB0D0559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EEF-497B-46B3-B613-CC9768A9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4173-0512-4965-9128-3C36855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5DE-EB64-4EAB-9C6A-58DA88C8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A9E-38C1-40E6-BEDF-1C746DED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EA9-62BE-4C28-94FE-E4636E73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0720" y="624852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m’s Laser FAQ (http://www.repairfaq.org/sam/lasersam.h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pyright © 1994-2009, Samuel M. Goldwasser, All Rights Reserv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F914-4FF7-4092-8532-6EF734437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eNe Laser Mode Sw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ollowing set of 10 slides illustrate how the longitudinal modes of a typical medium power HeNe laser sweep or cycle through the neon gain curve as the laser warms up and the cavity length increases due to thermal expans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vity Modes and Las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vity modes that fall within the region of the neon gain curve which is greater than the lasing threshold (net gain &gt; 1) will result laser oscillation and a lasing mode with an output power approximately proportional to its amplitude compared to the lasing thresh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are the longitudinal modes of th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output power of the laser is equal to the sum of all the longitudinal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cavity length increases due to thermal expansion, the wavelengths of the cavity modes (and longitudinal modes) increase (moving to the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cavity mode passes the point on the left (longer wavelengths) where the gain becomes less than 1, a new mode will eventually appear on the right to replac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a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acent longitudinal modes in random polarized HeNe lasers are usually orthogonally polarized with respect to an orientation determined by the laser tube construction.  These are denote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modes in a linearly polarized HeNe laser will all have the same polarization orientation but similar amplitudes for the same size la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676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t slide show to view mode sweep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eft and right arrows may be used to change mode sweep spee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1219320"/>
          <a:ext cx="914400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2:42:28Z</dcterms:created>
  <dc:creator>Sam Goldwasser</dc:creator>
  <dc:description/>
  <dc:language>en-US</dc:language>
  <cp:lastModifiedBy>Sam Goldwasser</cp:lastModifiedBy>
  <dcterms:modified xsi:type="dcterms:W3CDTF">2009-08-05T15:20:47Z</dcterms:modified>
  <cp:revision>6</cp:revision>
  <dc:subject/>
  <dc:title>PowerPoint Presentation</dc:title>
</cp:coreProperties>
</file>